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wmf" ContentType="image/x-wmf"/>
  <Override PartName="/ppt/media/image16.jpeg" ContentType="image/jpeg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EE8-24F4-426B-ACE0-9B64476B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B67-C2E3-45DD-B848-51397FE6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C8C-FF61-431B-9E71-FFA303B1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DD8-675C-4489-84F6-A0BD07E2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D32-2F6D-4138-BA9A-F97D74E2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2E3-BE86-4662-AF52-A87C6F35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810-BAD2-4D93-B696-956A9DBF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69B-E6FC-47B5-9A7C-0237077F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489-BA1B-4D69-B056-3423EBA3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083-AE0B-4941-BD76-8BAE1F3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C1F-4D62-45D5-813D-FE8C0707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2E8-D19A-49FF-8831-1207F962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666A-4DA7-4203-87DE-C88A242B0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226692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48520" y="4114800"/>
            <a:ext cx="268596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2514600"/>
            <a:ext cx="255276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19948200">
            <a:off x="5867280" y="0"/>
            <a:ext cx="244332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5556240"/>
            <a:ext cx="3124080" cy="130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2743200" cy="243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90920" y="2514600"/>
            <a:ext cx="635796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werpoint About M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130480"/>
            <a:ext cx="7467840" cy="4727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33520" y="228600"/>
            <a:ext cx="7772400" cy="25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lie's House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0"/>
            <a:ext cx="7924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vorite Spor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5049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304920"/>
            <a:ext cx="76960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Favorite Fo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863720" cy="3055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240012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57600" y="4419720"/>
            <a:ext cx="3124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43000" y="304920"/>
            <a:ext cx="70102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rien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429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6:58Z</dcterms:created>
  <dc:creator>CGB</dc:creator>
  <dc:description/>
  <dc:language>en-US</dc:language>
  <cp:lastModifiedBy>CGB</cp:lastModifiedBy>
  <dcterms:modified xsi:type="dcterms:W3CDTF">2008-06-02T14:13:36Z</dcterms:modified>
  <cp:revision>4</cp:revision>
  <dc:subject/>
  <dc:title>Slide 1</dc:title>
</cp:coreProperties>
</file>